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F0F-503D-4BD5-B0CC-EF6A012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8EC-2E38-40B1-BE73-9390E28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56A-D801-463B-8E4A-C3C21A4D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A7C-EC43-4DCA-A263-1E3A08F2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F55-6500-4381-8792-A36C2A4A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AFE0-23FE-49FE-9FE3-EF69BDB1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F92-474A-4CA9-B57A-4718E03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06E-765D-464A-9987-714C863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15B-6FA3-42D3-A22A-AC18934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EA9-3D16-48E3-8366-125E969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E8CA-D7D9-4753-87CD-41FEF3B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B58-E2CA-419B-BF70-8B2F692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3C5-021E-4ECA-876D-B0A8D38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938D-7FD6-4215-9438-DB24CE4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08D6-BC25-4F7A-8CEA-35C0CB2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690-EF2B-4614-B525-A384590E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8AA8-8110-4BDF-955F-1D714080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564-5D5D-4639-AC45-C10364B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EA4-632E-4A6F-891A-687F8F1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CC9-2E2D-434A-9332-35625A2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81C-BC45-4060-BA6C-DA5191AF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080-4199-4B9C-A42B-E3B5C5C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AC2-32D8-416B-B96F-CF3F2328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AC8-5D4F-4383-A54B-5FD1EDF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DCA3-E677-44AA-900C-FB7200E19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F39B-1AFD-42ED-B702-B9A2B8B109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01 Basic Home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 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, mildew, moth-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cts di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l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 and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O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d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pes wel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washed with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rinks in hot wa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flamm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f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pc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li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lyes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&amp;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s stains &amp;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d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lended w/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stat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certain s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grade carpets wear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tains, window scarves, pleated sh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fill pillows and bedd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lefi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 stains &amp;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color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h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 to h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colors &amp;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 (indoor &amp; outd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rative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e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in home furnis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sp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rylic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arance &amp; feel of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mildew &amp; moi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p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n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BRIC CONSTR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s: natural or manufactured fibers that are twisted together and woven into fabr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be dyed as individual yarns or as one whole piece fabric at a later tim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arn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or more sets of threads are interlaced at right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t of threads that run length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t of threads that run cross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AR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the direction threads run in a woven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a layer of fiber ends that stand up from the surface of the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e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yarn that is made from 2 or more types of fibers ex: natural &amp; manufactured. Produces a better quality product. Cotton/poly blend in drapes, bedding, 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implest pattern that is as strong one direction as it is in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ft yarn goes over and under each warp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Fib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from plants and animals</a:t>
            </a: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962520"/>
            <a:ext cx="38862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ose fi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from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 fib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from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has long floats (portions of yarn) on the surface of the fabric. Either the warp yarns or the weft yarns float over 4 or more opposite yarns, then go under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smooth and slippery weave. Good for lining of drap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the warp or the weft passes over 2 or more yarns. Can be both even and unev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type of weave is stronger than a plain weave but tends to show soil less 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acqua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d for damask, tapestry, and broc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in very formal type of interiors, living rooms, dining rooms, p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d for curtains and thermal blan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Wov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ade by joining fibers together by heat, moisture, chemicals, friction, an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: vinyl and other plast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xtile Fibers Product Identification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law specifies what must appear on the labe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ber content by highest % liste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ol Products Labeling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the manufacturer to include the labeling, identifying, and amount of natural fiber that comes from an animal. Must list the country of origin and % of each type of wool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lammable Fabrics Ac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that prevents manufacturers from producing and selling home interiors products that burn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ges 288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using and Interi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s 552-5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rinks unless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ildew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flammable unles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home furnishings a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w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d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ntz upholst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LAX (Line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est natural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t-f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es w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ithstand frequent lau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flamm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ildew-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home furnishing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p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hol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clo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itchen tow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M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gloss or s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e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interiors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li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L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, smoo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in and wrinkle resis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dyes wel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hable or dry-c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d by bleach &amp; l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insect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p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mpsh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ll cover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, dur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l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-la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il and fire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rinks, may cause allergic rea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moth resis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 to clean if deeply s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    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h &amp; Berber car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 rugs (ori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n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imal Ski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ther: soft, resists stains, fading, c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: soft, can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eather: uphol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ur: rugs, p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ed or Synthetic fi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-made with chemicals and other products. Can be combined with natural fibers to creat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len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1:25:45Z</dcterms:created>
  <dc:creator> sherry brooks</dc:creator>
  <dc:description/>
  <dc:language>en-US</dc:language>
  <cp:lastModifiedBy>s.brooks</cp:lastModifiedBy>
  <dcterms:modified xsi:type="dcterms:W3CDTF">2010-03-15T17:57:53Z</dcterms:modified>
  <cp:revision>22</cp:revision>
  <dc:subject/>
  <dc:title>Housing 1</dc:title>
</cp:coreProperties>
</file>